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31A-59F8-40FF-B845-7F95BC54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E7F-69F6-4B53-B926-BD047D16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DE2-D8F3-4772-92B5-7023861A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EAE-CEDB-416D-9245-E4301295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7AF6-CE4E-45BC-A99C-28386245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9A0-CB1F-4B3E-AF6A-9284103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CDF-86F5-450A-81CD-AE63A4B2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8882-CA03-46F9-93D6-6F74F5A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8676-2A81-4CC1-AEFB-48DCC0F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A19F-910D-4598-9A13-9E1991FF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A900-0EDC-4B4E-9FFE-50924CFE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C8F-6EA9-451E-861A-1451845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CE27-7DD9-4ED8-9907-4E91ED44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3C14-5225-4BB7-910B-ACC305C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AC7-1174-4801-BE7D-BA4622DE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B57-E0B4-4301-8771-413B4E10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DD1-ADAC-4F4F-BADB-7D1F7CF6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758-6156-47D9-9F57-5FF84E9E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56B-662C-409D-A526-C7D86C3F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EDF-AA97-49AE-A758-FADA2266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AA5-CFA9-4F9B-AB73-DD7445D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5B4-A206-46D6-AFAF-B4EEDEB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C7D-36A7-4539-945D-AA2ACED2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BD4-AA84-4B60-8AB6-2964107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ED57-145E-44ED-A019-D936FFF5F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4700-F623-425A-AAC2-DBEAE84EA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133720"/>
            <a:ext cx="8229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43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concessão de lavra terá por título uma portaria assinada pelo Ministro de Estado de Minas e Energ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9:50Z</dcterms:modified>
  <cp:revision>66</cp:revision>
  <dc:subject/>
  <dc:title>Apresentação do PowerPoint</dc:title>
</cp:coreProperties>
</file>